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BAA9-318C-4770-9E92-BF2CE8195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F407-B54B-4EFB-B513-002FB1580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7E1F0-0824-4F24-A338-5E659AB494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240" y="4060800"/>
            <a:ext cx="8534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A7FAE-ABE1-4898-A7E0-05B63DCE69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88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80D03-107E-4D61-A3E9-3377E8DCB6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4000" y="1752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99400" y="1752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240" y="406080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4000" y="406080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99400" y="406080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9B825-2CA1-48E7-B9AC-0475B2BDD6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7360" y="204480"/>
            <a:ext cx="727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B53BA-6D2D-4FE0-BA13-DF5DF20CA6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0188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4060800"/>
            <a:ext cx="8534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4060800"/>
            <a:ext cx="8534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0188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14000" y="1752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9400" y="1752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406080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14000" y="406080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9400" y="406080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96A13-8593-43F2-9028-2F819331F5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EA371-F362-4103-ACA6-8E47528A72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04BB5-FC33-4A8F-8E0F-2133746274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7360" y="204480"/>
            <a:ext cx="727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C88A0-1AC0-49D4-BA27-844F2CADA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9D5BB-63EF-4E0E-8A58-399697EE72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88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DF182-C19E-49CF-B706-F9DEFB7A4C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4060800"/>
            <a:ext cx="8534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3E4AE-6BC2-47C3-B719-A433091C69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TodaroCover-detail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7391520" y="0"/>
            <a:ext cx="1752480" cy="1509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447920"/>
            <a:ext cx="8991720" cy="152280"/>
          </a:xfrm>
          <a:prstGeom prst="rect">
            <a:avLst/>
          </a:prstGeom>
          <a:solidFill>
            <a:srgbClr val="004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839080" y="1447920"/>
            <a:ext cx="304920" cy="5333760"/>
          </a:xfrm>
          <a:prstGeom prst="rect">
            <a:avLst/>
          </a:prstGeom>
          <a:solidFill>
            <a:srgbClr val="004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8"/>
          <p:cNvSpPr/>
          <p:nvPr/>
        </p:nvSpPr>
        <p:spPr>
          <a:xfrm>
            <a:off x="8634240" y="1600200"/>
            <a:ext cx="381240" cy="48006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800600"/>
              <a:gd name="textAreaBottom" fmla="*/ 4782240 h 4800600"/>
            </a:gdLst>
            <a:ahLst/>
            <a:rect l="textAreaLeft" t="textAreaTop" r="textAreaRight" b="textAreaBottom"/>
            <a:pathLst>
              <a:path w="21600" h="271752">
                <a:moveTo>
                  <a:pt x="3600" y="0"/>
                </a:moveTo>
                <a:arcTo wR="3600" hR="3600" stAng="16200000" swAng="-5400000"/>
                <a:lnTo>
                  <a:pt x="0" y="268152"/>
                </a:lnTo>
                <a:arcTo wR="3600" hR="3600" stAng="10800000" swAng="-5400000"/>
                <a:lnTo>
                  <a:pt x="18000" y="2717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9"/>
          <p:cNvSpPr/>
          <p:nvPr/>
        </p:nvSpPr>
        <p:spPr>
          <a:xfrm>
            <a:off x="8153280" y="640080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004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8153280" y="6629400"/>
            <a:ext cx="990720" cy="228600"/>
          </a:xfrm>
          <a:prstGeom prst="rect">
            <a:avLst/>
          </a:prstGeom>
          <a:solidFill>
            <a:srgbClr val="004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af1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5-</a:t>
            </a:r>
            <a:fld id="{F9DEF38F-6EB4-4F95-84C3-3B17E1D04707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0666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af199"/>
                </a:solidFill>
                <a:latin typeface="Arial"/>
              </a:rPr>
              <a:t>Copyright © 2009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aw-logo"/>
          <p:cNvPicPr/>
          <p:nvPr/>
        </p:nvPicPr>
        <p:blipFill>
          <a:blip r:embed="rId2"/>
          <a:stretch/>
        </p:blipFill>
        <p:spPr>
          <a:xfrm>
            <a:off x="228600" y="6095880"/>
            <a:ext cx="752400" cy="573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TodaroCover-RGB06"/>
          <p:cNvPicPr/>
          <p:nvPr/>
        </p:nvPicPr>
        <p:blipFill>
          <a:blip r:embed="rId3">
            <a:lum bright="-4000"/>
          </a:blip>
          <a:stretch/>
        </p:blipFill>
        <p:spPr>
          <a:xfrm>
            <a:off x="4148280" y="609480"/>
            <a:ext cx="4368600" cy="5486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205920"/>
            <a:ext cx="3429000" cy="116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d81b"/>
                </a:solidFill>
                <a:latin typeface="Arial"/>
              </a:rPr>
              <a:t>Chapter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34290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d81b"/>
                </a:solidFill>
                <a:latin typeface="Arial"/>
              </a:rPr>
              <a:t>Poverty, Inequality, an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5-</a:t>
            </a:r>
            <a:fld id="{2658249E-F27C-4D23-A33A-3BE5079552D2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5.5 Functional Income Distribution in a Market Economy: An Illu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fig05_05"/>
          <p:cNvPicPr/>
          <p:nvPr/>
        </p:nvPicPr>
        <p:blipFill>
          <a:blip r:embed="rId1"/>
          <a:stretch/>
        </p:blipFill>
        <p:spPr>
          <a:xfrm>
            <a:off x="2039760" y="1752480"/>
            <a:ext cx="491184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5-</a:t>
            </a:r>
            <a:fld id="{CE8B2E76-DEA0-432A-9600-E28FB450D2EE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ing Inequality and Pove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ing Absolute Pov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count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poverty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absolute poverty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ncome of pers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2286000" y="3733920"/>
                <a:ext cx="403848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PG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5-</a:t>
            </a:r>
            <a:fld id="{96485C1E-05DF-44C0-8ED0-D034CB6A2373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gure 5.6 Measuring the Total Poverty G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fig05_06"/>
          <p:cNvPicPr/>
          <p:nvPr/>
        </p:nvPicPr>
        <p:blipFill>
          <a:blip r:embed="rId1"/>
          <a:stretch/>
        </p:blipFill>
        <p:spPr>
          <a:xfrm>
            <a:off x="228600" y="2017800"/>
            <a:ext cx="8534520" cy="38894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5-</a:t>
            </a:r>
            <a:fld id="{63D4CC00-DC96-461A-9E1A-DCEC79814FFF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ing Inequality and Pove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ing Absolute Pov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poverty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is number of per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PG is total poverty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028"/>
              <p:cNvSpPr txBox="1"/>
              <p:nvPr/>
            </p:nvSpPr>
            <p:spPr>
              <a:xfrm>
                <a:off x="3252960" y="3200400"/>
                <a:ext cx="263808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G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PG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5-</a:t>
            </a:r>
            <a:fld id="{3D6FF04B-6C52-4553-A2EE-C07A7974D995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ing Inequality and Poverty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ing Absolute Pov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uman Poverty Index (HP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5-</a:t>
            </a:r>
            <a:fld id="{DA4A7854-D595-4B8C-A191-955CB72BA698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verty, Inequality, and Social Welf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so bad about inequa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alistic development and shifting Lorenz curves: some stylized typ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sector enrichment (see Figure 5.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n sector enrichment (see Figure 5.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n sector enlargement (see Figure 5.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5-</a:t>
            </a:r>
            <a:fld id="{E1CE85E6-4B74-44A7-BB35-AF94D06A0809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5.7 Improved Income Distribution under the Traditional-Sector Enrichment Growth Typ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fig05_08"/>
          <p:cNvPicPr/>
          <p:nvPr/>
        </p:nvPicPr>
        <p:blipFill>
          <a:blip r:embed="rId1"/>
          <a:stretch/>
        </p:blipFill>
        <p:spPr>
          <a:xfrm>
            <a:off x="2257560" y="1752480"/>
            <a:ext cx="447660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5-</a:t>
            </a:r>
            <a:fld id="{8544F30A-D38F-4187-B7F8-1FE917BBB3C2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5.8 Worsened Income Distribution under the Modern-Sector Enrichment Growth Ty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8" descr="fig05_07"/>
          <p:cNvPicPr/>
          <p:nvPr/>
        </p:nvPicPr>
        <p:blipFill>
          <a:blip r:embed="rId1"/>
          <a:stretch/>
        </p:blipFill>
        <p:spPr>
          <a:xfrm>
            <a:off x="1752480" y="1828800"/>
            <a:ext cx="451656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5-</a:t>
            </a:r>
            <a:fld id="{570F0CBC-7C57-4DC4-8ECE-ECAB89249F39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5.9 Crossing Lorenz Curves in the Modern-Sector Enlargement Growth Ty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fig05_09"/>
          <p:cNvPicPr/>
          <p:nvPr/>
        </p:nvPicPr>
        <p:blipFill>
          <a:blip r:embed="rId1"/>
          <a:stretch/>
        </p:blipFill>
        <p:spPr>
          <a:xfrm>
            <a:off x="2198520" y="1752480"/>
            <a:ext cx="459288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5-</a:t>
            </a:r>
            <a:fld id="{4D9BB995-5773-4705-97AA-0774A3DCC73F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verty, Inequality, and Social Welf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znets’ inverted-U hypo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5-</a:t>
            </a:r>
            <a:fld id="{ECA67763-57F4-4CA6-8454-C6BF6D99029F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rowth Controversy: Seven Critical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extent of relative inequality, and how is this related to the extent of pover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are the po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benefits from economic grow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rapid growth necessarily cause greater income inequa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 poor benefit from grow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5-</a:t>
            </a:r>
            <a:fld id="{674453C3-F8B3-4CFF-AE0B-35FD4D799FA0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5.10 The “Inverted-U” Kuznets Cu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fig05_10"/>
          <p:cNvPicPr/>
          <p:nvPr/>
        </p:nvPicPr>
        <p:blipFill>
          <a:blip r:embed="rId1"/>
          <a:stretch/>
        </p:blipFill>
        <p:spPr>
          <a:xfrm>
            <a:off x="1463760" y="1752480"/>
            <a:ext cx="606240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5-</a:t>
            </a:r>
            <a:fld id="{9E4AD8BD-1203-459A-B832-50C9AF90CF01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ble 5.2 Selected Income Distribution Estim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tbl05_02"/>
          <p:cNvPicPr/>
          <p:nvPr/>
        </p:nvPicPr>
        <p:blipFill>
          <a:blip r:embed="rId1"/>
          <a:stretch/>
        </p:blipFill>
        <p:spPr>
          <a:xfrm>
            <a:off x="716040" y="1752480"/>
            <a:ext cx="755964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5-</a:t>
            </a:r>
            <a:fld id="{F5835C95-887A-4C72-92CC-286B75EA6AD1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ble 5.3 Income and Inequality in Selected Count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tbl05_03"/>
          <p:cNvPicPr/>
          <p:nvPr/>
        </p:nvPicPr>
        <p:blipFill>
          <a:blip r:embed="rId1"/>
          <a:stretch/>
        </p:blipFill>
        <p:spPr>
          <a:xfrm>
            <a:off x="1852560" y="1752480"/>
            <a:ext cx="528660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5-</a:t>
            </a:r>
            <a:fld id="{97EB7566-BF66-4A75-9429-7E1CBC0F4AFE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5.11 Kuznets Curve with Latin American Countries Identif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fig05_11"/>
          <p:cNvPicPr/>
          <p:nvPr/>
        </p:nvPicPr>
        <p:blipFill>
          <a:blip r:embed="rId1"/>
          <a:srcRect l="8620" t="0" r="3606" b="13793"/>
          <a:stretch/>
        </p:blipFill>
        <p:spPr>
          <a:xfrm>
            <a:off x="838080" y="1676520"/>
            <a:ext cx="6477120" cy="4626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5-</a:t>
            </a:r>
            <a:fld id="{3C348538-A08E-4A49-BF74-3BD1E1EE9231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5.12 Plot of Inequality Data for Selected Count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fig05_12"/>
          <p:cNvPicPr/>
          <p:nvPr/>
        </p:nvPicPr>
        <p:blipFill>
          <a:blip r:embed="rId1"/>
          <a:stretch/>
        </p:blipFill>
        <p:spPr>
          <a:xfrm>
            <a:off x="838080" y="1676520"/>
            <a:ext cx="6172200" cy="4671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5-</a:t>
            </a:r>
            <a:fld id="{74CA50A8-B900-4539-A029-D8D9D6969283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verty, Inequality, and Social Welf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and inequa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5-</a:t>
            </a:r>
            <a:fld id="{BB71FE65-15B4-453A-93D5-839E844006AB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5.13 Long-Term Economic Growth and Income Inequality, 1965-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fig05_13"/>
          <p:cNvPicPr/>
          <p:nvPr/>
        </p:nvPicPr>
        <p:blipFill>
          <a:blip r:embed="rId1"/>
          <a:srcRect l="0" t="0" r="0" b="-489"/>
          <a:stretch/>
        </p:blipFill>
        <p:spPr>
          <a:xfrm>
            <a:off x="1981080" y="1676520"/>
            <a:ext cx="438804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5-</a:t>
            </a:r>
            <a:fld id="{A6AC279E-5A69-4A99-92AD-F84E7C6EC7CF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5.14 Change in Inequality in Selected Countries, with or without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fig05_14"/>
          <p:cNvPicPr/>
          <p:nvPr/>
        </p:nvPicPr>
        <p:blipFill>
          <a:blip r:embed="rId1"/>
          <a:stretch/>
        </p:blipFill>
        <p:spPr>
          <a:xfrm>
            <a:off x="504720" y="1752480"/>
            <a:ext cx="798048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5-</a:t>
            </a:r>
            <a:fld id="{F2A6D106-2B66-480B-9827-EF251EA42DE0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solute Poverty: Extent and Magnit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e Pov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-a-day headcount shows some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idence of extreme poverty is un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5-</a:t>
            </a:r>
            <a:fld id="{3EC28A08-18F3-403B-BEFA-AF8F14E8FF1D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ble 5.4 Regional Poverty Incidence,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tbl05_04"/>
          <p:cNvPicPr/>
          <p:nvPr/>
        </p:nvPicPr>
        <p:blipFill>
          <a:blip r:embed="rId1"/>
          <a:stretch/>
        </p:blipFill>
        <p:spPr>
          <a:xfrm>
            <a:off x="228600" y="1965240"/>
            <a:ext cx="8534520" cy="3994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5-</a:t>
            </a:r>
            <a:fld id="{5BD42066-161C-460B-8D8E-BBA119420C36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rowth Controversy: Seven Critical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high levels of inequality always b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olicies can reduce pover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5-</a:t>
            </a:r>
            <a:fld id="{7430BA77-4D14-4DBA-9B0B-B810D0D23238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ble 5.5 Poverty Incidence in Selected Count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tbl05_05"/>
          <p:cNvPicPr/>
          <p:nvPr/>
        </p:nvPicPr>
        <p:blipFill>
          <a:blip r:embed="rId1"/>
          <a:srcRect l="0" t="0" r="0" b="48351"/>
          <a:stretch/>
        </p:blipFill>
        <p:spPr>
          <a:xfrm>
            <a:off x="838080" y="1676520"/>
            <a:ext cx="6782040" cy="4659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5-</a:t>
            </a:r>
            <a:fld id="{21939778-EFA6-4A36-B54D-F93D90431685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ble 5.5 Poverty Incidence in Selected Countries (continu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tbl05_05"/>
          <p:cNvPicPr/>
          <p:nvPr/>
        </p:nvPicPr>
        <p:blipFill>
          <a:blip r:embed="rId1"/>
          <a:srcRect l="0" t="51693" r="0" b="0"/>
          <a:stretch/>
        </p:blipFill>
        <p:spPr>
          <a:xfrm>
            <a:off x="685800" y="1752480"/>
            <a:ext cx="6754680" cy="4340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5-</a:t>
            </a:r>
            <a:fld id="{BF1D505B-A47A-4748-9276-946963B9A4B3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solute Poverty: Extent and Magnit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and pover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on per capita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saving and investment by rich in poo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on 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home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entives for public participation in the development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5-</a:t>
            </a:r>
            <a:fld id="{AD4EC55C-47B5-4F76-97BF-B102442CED67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 Characteristics of Poverty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ral Pover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and poverty (See chapter 8 for more detai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nic minorities, indigenous populations, and pov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5-</a:t>
            </a:r>
            <a:fld id="{94FA2AEC-4B94-45E1-B096-F587008B3AB6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ble 5.6 Poverty: Rural versus Urb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tbl05_06"/>
          <p:cNvPicPr/>
          <p:nvPr/>
        </p:nvPicPr>
        <p:blipFill>
          <a:blip r:embed="rId1"/>
          <a:stretch/>
        </p:blipFill>
        <p:spPr>
          <a:xfrm>
            <a:off x="838080" y="1752480"/>
            <a:ext cx="6836040" cy="4753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5-</a:t>
            </a:r>
            <a:fld id="{D5B98BA1-7A21-4278-A1FB-3E9BDF73D4A0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ble 5.7 Indigenous Poverty in Latin Ame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tbl05_07"/>
          <p:cNvPicPr/>
          <p:nvPr/>
        </p:nvPicPr>
        <p:blipFill>
          <a:blip r:embed="rId1"/>
          <a:stretch/>
        </p:blipFill>
        <p:spPr>
          <a:xfrm>
            <a:off x="228600" y="2641680"/>
            <a:ext cx="8534520" cy="26416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5-</a:t>
            </a:r>
            <a:fld id="{2528673B-2D9D-46F9-9440-E62FBBCDE107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ange of Policy Options: Some Basic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s of inter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ing the functional distrib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igating the size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ating (reducing) the size distribution at upper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ating (increasing) the size distribution at lower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5-</a:t>
            </a:r>
            <a:fld id="{69C572DB-8757-44AC-8333-68BDB7BC78CA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ange of Policy Options: Some Basic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relative factor 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ive redistribution of asset ow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ive tax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payments and public provision of good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5-</a:t>
            </a:r>
            <a:fld id="{D668B76E-0E9F-4B85-8B03-D7D83ABBAFB3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and Conclusions:  The Need for a Package of Polic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ies to correct factor price distor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ies to change the distribution of assets, power, and access to education and associated employment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ies of progressive taxation and directed transfer pay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ies designed to build capabilities and human and social capital of the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4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5-</a:t>
            </a:r>
            <a:fld id="{E41F1BD8-AF02-4E9B-A034-867B029B2552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epts for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pov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t ow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 of economic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osable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sticity of factor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0" y="175212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-price distor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 share distribution of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of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ter-Greer-Thorbecke (FGT)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distribution of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5-</a:t>
            </a:r>
            <a:fld id="{497D2BD4-D315-44CE-B59D-C45B07ED14E0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ing Inequality and Pove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ing Ine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distributions (quintiles, dec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enz cu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ni coeffic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4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5-</a:t>
            </a:r>
            <a:fld id="{3147E44B-3A20-43A3-AAC3-9B66C6891997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epts for Review (cont’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ni co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count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Poverty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ine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rect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uznets cur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0" y="175212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enz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oclassical price-incentiv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distribution of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verty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ive income 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4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5-</a:t>
            </a:r>
            <a:fld id="{CA989990-9052-4C4F-9453-BFBE3ED5578A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epts for Review (cont’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n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ion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ressive 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0" y="175212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distribution of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i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fare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5-</a:t>
            </a:r>
            <a:fld id="{0B624BDC-DB84-454D-9763-0C04C8582940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 5.1 Typical Size Distribution of Personal Income in a Developing Country by Income Shares—Quintiles and Dec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tbl05_01"/>
          <p:cNvPicPr/>
          <p:nvPr/>
        </p:nvPicPr>
        <p:blipFill>
          <a:blip r:embed="rId1"/>
          <a:stretch/>
        </p:blipFill>
        <p:spPr>
          <a:xfrm>
            <a:off x="609480" y="1676520"/>
            <a:ext cx="7086600" cy="4717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5-</a:t>
            </a:r>
            <a:fld id="{2670D07C-E434-45B2-AB0D-18AB1A01AD49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gure 5.1 The Lorenz Cu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fig05_01"/>
          <p:cNvPicPr/>
          <p:nvPr/>
        </p:nvPicPr>
        <p:blipFill>
          <a:blip r:embed="rId1"/>
          <a:stretch/>
        </p:blipFill>
        <p:spPr>
          <a:xfrm>
            <a:off x="2236680" y="1752480"/>
            <a:ext cx="4773600" cy="4672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5-</a:t>
            </a:r>
            <a:fld id="{733005F8-7C7D-4434-AEDF-4F736D5F747D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5.2 The Greater the Curvature of the Lorenz Line, the Greater the Relative Degree of Ine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fig05_02"/>
          <p:cNvPicPr/>
          <p:nvPr/>
        </p:nvPicPr>
        <p:blipFill>
          <a:blip r:embed="rId1"/>
          <a:stretch/>
        </p:blipFill>
        <p:spPr>
          <a:xfrm>
            <a:off x="228600" y="1768320"/>
            <a:ext cx="8534520" cy="4388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5-</a:t>
            </a:r>
            <a:fld id="{A0F68A0D-01EB-4302-AC6C-09A6A883E8A2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5.3 Estimating the Gini Coeffic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fig05_03"/>
          <p:cNvPicPr/>
          <p:nvPr/>
        </p:nvPicPr>
        <p:blipFill>
          <a:blip r:embed="rId1"/>
          <a:stretch/>
        </p:blipFill>
        <p:spPr>
          <a:xfrm>
            <a:off x="2222640" y="1752480"/>
            <a:ext cx="454500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5-</a:t>
            </a:r>
            <a:fld id="{2E975059-E051-4DD8-9E22-22347A9CD067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5.4 Four Possible Lorenz Cur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fig05_04"/>
          <p:cNvPicPr/>
          <p:nvPr/>
        </p:nvPicPr>
        <p:blipFill>
          <a:blip r:embed="rId1"/>
          <a:stretch/>
        </p:blipFill>
        <p:spPr>
          <a:xfrm>
            <a:off x="2073240" y="1752480"/>
            <a:ext cx="484344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2T17:56:16Z</dcterms:created>
  <dc:creator>Michael P. Todaro</dc:creator>
  <dc:description/>
  <dc:language>en-US</dc:language>
  <cp:lastModifiedBy>Abu Shonchoy</cp:lastModifiedBy>
  <dcterms:modified xsi:type="dcterms:W3CDTF">2011-10-23T23:33:44Z</dcterms:modified>
  <cp:revision>160</cp:revision>
  <dc:subject>Poverty, Inequality, and Development</dc:subject>
  <dc:title>Chapter 5</dc:title>
</cp:coreProperties>
</file>